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18A-E095-4F2E-92FE-101509ED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918-8B80-4956-9C35-973A4646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72C-051F-4228-B64D-F7DA64FB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E69-2E34-41FC-BA8D-45F361AB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F705-FE16-495B-9E15-C4CD9414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DF8F-086C-4B62-9D94-E266B80E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90D1-0170-43D9-96D7-06C0ED6E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630B-E20C-43BA-A13B-F946F82E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6557-5C09-441B-A268-45B8E7ED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FADC-1CCC-47E0-8FC1-CB5DDE1C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E0A6-CC19-4580-AA34-65841050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38B-B05F-45C0-9533-A434A44C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EF15-9F53-414B-8A63-B9BAE114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C4B3-9BF8-401B-B07F-B65F8B05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4ECB-A3A8-4391-BE65-6EF0100C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123A-7621-477B-A877-FBC51A1C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16AD-5901-4EAE-8506-96BAA41D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BD9-C39C-4058-8FBD-EE53426B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05E-3CC2-4937-B39E-98FCA966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A63-65C9-4066-8516-B0032995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8CC-B10F-4235-A154-9129876A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AF7-5708-4E7F-9360-1D1C237F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113-FEE2-4DD9-B616-B4EDAE3A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CEB-D6A1-4A9A-8C88-52AEE9E6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8973-7553-46C1-BA10-580B338517C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6DCA-3E4C-4137-AAB5-105FD64DA9F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048120" y="649296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901000" cy="2305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Federal Guidance: The DHS Building and Infrastructure Protection Series (BIP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cience and Technology Directorate, Infrastructure Protection and Disaster Management Divis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 in Point: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ference Manual to Mitigate Potential Terrorist Attacks Against Buildings, Edition 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Footer Placeholder 1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901000" cy="2305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32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Options for Critical Infrastructure Security and Target Harde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novative Options for Securing Critical Infrastruc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erimeter Secu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rban Design Features and Landscap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lazing Techniqu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chitectural Barri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lectronic Warning and Detection Technolo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Footer Placeholder 1"/>
          <p:cNvSpPr/>
          <p:nvPr/>
        </p:nvSpPr>
        <p:spPr>
          <a:xfrm>
            <a:off x="2895480" y="6248520"/>
            <a:ext cx="358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311040" y="122400"/>
            <a:ext cx="8729640" cy="1676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urity Considerations and Patrolling the Bord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rdening the Border: Three Agenc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85040" cy="2305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Security Considerations and Patrolling the Bord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volution of the U.S. Border Patr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rst Border Patrol Academ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World Wa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September 11, 200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Footer Placeholder 1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85040" cy="2305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Hardening the Border: Three Agenc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.S. Citizenship and Immigration Servi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.S. Immigration and Customs Enforc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.S. Customs and Border Prote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Footer Placeholder 1"/>
          <p:cNvSpPr/>
          <p:nvPr/>
        </p:nvSpPr>
        <p:spPr>
          <a:xfrm>
            <a:off x="3124080" y="641664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omplex Arrangement: Components of the Transportation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ransportation Security Administr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938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A Complex Arrangement: Components of the Transportation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viation and the U.S. Federal Aviation Administ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tor Transportation Net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ilway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938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Transportation Security Administr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viation and Transportation Security Act of 200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deral Air Marshal Serv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SA Servi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412120" cy="167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yber-Terror: The Thre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yber-Terror:  Potential Targe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: Information Security and Cyberw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yber-Terror: Feasibility and Likelihoo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2305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yber-Terror: The Thre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Internet and the New 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es of the Interne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yberwa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yberterroris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467560" cy="1408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Always Vigilant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ad00"/>
                </a:solidFill>
                <a:latin typeface="Book Antiqua"/>
              </a:rPr>
              <a:t>Intelligence and Hardening the Targe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230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yber-Terror: Potential Targe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ivate Corporations, Telecommunications Companies, Government Agenc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230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Information Security and Cyberw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w Technologies as Counterterrorist Weap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dern Surveillance Technolo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chel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2305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yber-Terror: Feasibility and Likelihoo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asibility:  Availability of Technolo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kelihood:  A Moot Poin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ackground: Intelligence Collection and Jurisdi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U.S. Intelligence Community: Mis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U.S. Intelligence Community: Challe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Background: Intelligence Collection and Jurisdi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BI and Domestic Intelligence Collection Autho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IA and International Intelligence Collection Autho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plomatic Security Service Autho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U.S. Intelligence Community: Mis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the Director of National Intellig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tional Security Agen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entral Intelligence Agen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deral Bureau of Investig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U.S. Intelligence Community: Challe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blems of Intelligence Coord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ase in Point: Successful International Intelligence Cooper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blems of Collection and Analy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ort on the U.S. Intelligence Community’s Prewar Intelligence Assessments on Iraq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itical Infrastructure: Background and Contex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deral Guidance: The DHS Building and Infrastructure Protection Series (BIP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ptions for Critical Infrastructure Security and Target Harde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901000" cy="2305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2437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ritical Infrastructure: Background and Contex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fining Critical Infrastruc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esidential Decision Directive/NSC-63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omeland Security Policy Directive (HSPD)-7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esidential Policy Directive (PPD)-21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rget Harden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rdening the Target: Public-Private Contex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74040" cy="2120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2437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" descr="Illustration showing the NIPP Partnership Framework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7-01T00:03:19Z</dcterms:modified>
  <cp:revision>129</cp:revision>
  <dc:subject/>
  <dc:title>Slide 1</dc:title>
</cp:coreProperties>
</file>